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8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38120" y="8997840"/>
            <a:ext cx="8769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EA3557-EE85-404B-B470-CE59AED05298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25080" y="717480"/>
            <a:ext cx="4700520" cy="352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25360" y="4543200"/>
            <a:ext cx="4808880" cy="425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25440" y="717480"/>
            <a:ext cx="4700520" cy="3525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25360" y="4543200"/>
            <a:ext cx="4808880" cy="425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a study of 20 projects in 13 organizations conducted in 200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E770205E-EFB9-4994-946F-3748EAE62ED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6F6EF7E8-188F-40FA-9087-CC30B82E42F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037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4: Building Self-directed Teams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cess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17360" y="1712520"/>
            <a:ext cx="3632040" cy="4589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200" bIns="52200" anchor="t">
            <a:normAutofit fontScale="98000"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rojects can start on any phase or cyc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phase or cycle starts with a launch or re-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trategy i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 in increment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multiple cyc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-ahe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ermits whatever process structure makes the most business and technical sen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5648400" y="4338720"/>
            <a:ext cx="1447560" cy="533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hase or cycl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7210440" y="3195720"/>
            <a:ext cx="130644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or cycl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5915160" y="1900080"/>
            <a:ext cx="912600" cy="4194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47" name="AutoShape 18"/>
          <p:cNvCxnSpPr>
            <a:stCxn id="146" idx="6"/>
            <a:endCxn id="145" idx="0"/>
          </p:cNvCxnSpPr>
          <p:nvPr/>
        </p:nvCxnSpPr>
        <p:spPr>
          <a:xfrm>
            <a:off x="6827760" y="2109960"/>
            <a:ext cx="1037520" cy="108648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48" name="AutoShape 19"/>
          <p:cNvCxnSpPr>
            <a:stCxn id="145" idx="2"/>
            <a:endCxn id="144" idx="6"/>
          </p:cNvCxnSpPr>
          <p:nvPr/>
        </p:nvCxnSpPr>
        <p:spPr>
          <a:xfrm rot="5400000">
            <a:off x="7308000" y="4049280"/>
            <a:ext cx="343800" cy="7693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49" name="Oval 20"/>
          <p:cNvSpPr/>
          <p:nvPr/>
        </p:nvSpPr>
        <p:spPr>
          <a:xfrm>
            <a:off x="5840280" y="2662200"/>
            <a:ext cx="1065240" cy="419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Re-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0" name="AutoShape 21"/>
          <p:cNvCxnSpPr>
            <a:stCxn id="144" idx="2"/>
            <a:endCxn id="149" idx="2"/>
          </p:cNvCxnSpPr>
          <p:nvPr/>
        </p:nvCxnSpPr>
        <p:spPr>
          <a:xfrm flipH="1" rot="10800000">
            <a:off x="5647320" y="2871000"/>
            <a:ext cx="192600" cy="1734480"/>
          </a:xfrm>
          <a:prstGeom prst="curvedConnector5">
            <a:avLst>
              <a:gd name="adj1" fmla="val -118913"/>
              <a:gd name="adj2" fmla="val 49989"/>
              <a:gd name="adj3" fmla="val -118913"/>
            </a:avLst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51" name="AutoShape 22"/>
          <p:cNvCxnSpPr>
            <a:stCxn id="149" idx="6"/>
            <a:endCxn id="145" idx="0"/>
          </p:cNvCxnSpPr>
          <p:nvPr/>
        </p:nvCxnSpPr>
        <p:spPr>
          <a:xfrm>
            <a:off x="6905520" y="2871720"/>
            <a:ext cx="959760" cy="3247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52" name="Oval 23"/>
          <p:cNvSpPr/>
          <p:nvPr/>
        </p:nvSpPr>
        <p:spPr>
          <a:xfrm>
            <a:off x="5648400" y="5234040"/>
            <a:ext cx="1447560" cy="533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3" name="AutoShape 24"/>
          <p:cNvCxnSpPr>
            <a:stCxn id="145" idx="2"/>
            <a:endCxn id="152" idx="6"/>
          </p:cNvCxnSpPr>
          <p:nvPr/>
        </p:nvCxnSpPr>
        <p:spPr>
          <a:xfrm rot="5400000">
            <a:off x="6860160" y="4497120"/>
            <a:ext cx="1239120" cy="7693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826920"/>
            <a:ext cx="7421400" cy="563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16080" y="1617840"/>
            <a:ext cx="1887480" cy="13730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product and business goal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17520" y="3218040"/>
            <a:ext cx="1887480" cy="13716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2.  Assign roles and define team goal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500200" y="1617840"/>
            <a:ext cx="1981440" cy="13730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and near-term plan, estimate size, tasks, and resource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502000" y="3218040"/>
            <a:ext cx="1981080" cy="13716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5.  Develop the quality pla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2000" y="4818240"/>
            <a:ext cx="1981080" cy="144756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6.  Assign resources, load balance, make personal plans, consolidate personal plans into team pla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749840" y="1617840"/>
            <a:ext cx="1887480" cy="13730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7.  Conduct risk assessment, create and assign risk mitigation plan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749840" y="3218040"/>
            <a:ext cx="1887480" cy="13716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8.  Prepare management briefing and launch report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858000" y="3218040"/>
            <a:ext cx="1981080" cy="13716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Launch postmortem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6858000" y="1617840"/>
            <a:ext cx="1981080" cy="13730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9.  Hold management review, negotiate and approve pla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17520" y="4818240"/>
            <a:ext cx="1887480" cy="144756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3.  Produce development strategy and tailored proces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952880" y="504684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qualified TSP team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6" name="AutoShape 14"/>
          <p:cNvCxnSpPr>
            <a:stCxn id="155" idx="2"/>
            <a:endCxn id="156" idx="0"/>
          </p:cNvCxnSpPr>
          <p:nvPr/>
        </p:nvCxnSpPr>
        <p:spPr>
          <a:xfrm>
            <a:off x="1260000" y="2990520"/>
            <a:ext cx="2520" cy="22788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7" name="AutoShape 15"/>
          <p:cNvCxnSpPr>
            <a:stCxn id="156" idx="2"/>
            <a:endCxn id="164" idx="0"/>
          </p:cNvCxnSpPr>
          <p:nvPr/>
        </p:nvCxnSpPr>
        <p:spPr>
          <a:xfrm>
            <a:off x="1261800" y="4589280"/>
            <a:ext cx="1080" cy="22932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8" name="AutoShape 16"/>
          <p:cNvCxnSpPr>
            <a:stCxn id="157" idx="2"/>
            <a:endCxn id="158" idx="0"/>
          </p:cNvCxnSpPr>
          <p:nvPr/>
        </p:nvCxnSpPr>
        <p:spPr>
          <a:xfrm>
            <a:off x="3490920" y="2990520"/>
            <a:ext cx="2160" cy="22788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9" name="AutoShape 17"/>
          <p:cNvCxnSpPr>
            <a:stCxn id="158" idx="2"/>
            <a:endCxn id="159" idx="0"/>
          </p:cNvCxnSpPr>
          <p:nvPr/>
        </p:nvCxnSpPr>
        <p:spPr>
          <a:xfrm>
            <a:off x="3492000" y="4589280"/>
            <a:ext cx="1080" cy="22932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0" name="AutoShape 18"/>
          <p:cNvCxnSpPr>
            <a:stCxn id="160" idx="2"/>
            <a:endCxn id="161" idx="0"/>
          </p:cNvCxnSpPr>
          <p:nvPr/>
        </p:nvCxnSpPr>
        <p:spPr>
          <a:xfrm>
            <a:off x="5694120" y="2990520"/>
            <a:ext cx="1080" cy="22788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1" name="AutoShape 19"/>
          <p:cNvCxnSpPr>
            <a:stCxn id="163" idx="2"/>
            <a:endCxn id="162" idx="0"/>
          </p:cNvCxnSpPr>
          <p:nvPr/>
        </p:nvCxnSpPr>
        <p:spPr>
          <a:xfrm>
            <a:off x="7848360" y="2990520"/>
            <a:ext cx="1080" cy="22788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2" name="AutoShape 20"/>
          <p:cNvCxnSpPr>
            <a:stCxn id="164" idx="2"/>
            <a:endCxn id="157" idx="1"/>
          </p:cNvCxnSpPr>
          <p:nvPr/>
        </p:nvCxnSpPr>
        <p:spPr>
          <a:xfrm flipH="1" flipV="1" rot="5400000">
            <a:off x="-100080" y="3666240"/>
            <a:ext cx="3961080" cy="1238760"/>
          </a:xfrm>
          <a:prstGeom prst="bentConnector4">
            <a:avLst>
              <a:gd name="adj1" fmla="val -5771"/>
              <a:gd name="adj2" fmla="val 88052"/>
            </a:avLst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3" name="AutoShape 21"/>
          <p:cNvCxnSpPr>
            <a:stCxn id="159" idx="2"/>
            <a:endCxn id="160" idx="1"/>
          </p:cNvCxnSpPr>
          <p:nvPr/>
        </p:nvCxnSpPr>
        <p:spPr>
          <a:xfrm flipH="1" flipV="1" rot="5400000">
            <a:off x="2139840" y="3656520"/>
            <a:ext cx="3961080" cy="1258200"/>
          </a:xfrm>
          <a:prstGeom prst="bentConnector4">
            <a:avLst>
              <a:gd name="adj1" fmla="val -5771"/>
              <a:gd name="adj2" fmla="val 89381"/>
            </a:avLst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4" name="AutoShape 22"/>
          <p:cNvCxnSpPr>
            <a:stCxn id="161" idx="2"/>
            <a:endCxn id="163" idx="1"/>
          </p:cNvCxnSpPr>
          <p:nvPr/>
        </p:nvCxnSpPr>
        <p:spPr>
          <a:xfrm flipH="1" flipV="1" rot="5400000">
            <a:off x="5133600" y="2865240"/>
            <a:ext cx="2285280" cy="1164240"/>
          </a:xfrm>
          <a:prstGeom prst="bentConnector4">
            <a:avLst>
              <a:gd name="adj1" fmla="val -10004"/>
              <a:gd name="adj2" fmla="val 90442"/>
            </a:avLst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15560" y="1728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1,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s what they want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s why the job is importa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swers the team member’s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meeting 1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tivate the team members to do this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the team understands management’s criteria for suc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s 2 through 8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15560" y="1728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TSP launch, th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process and strategy for doing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detailed team and personal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risks of their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their plans to manageme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the team and team leader have a great deal to do during the launch,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guided by a trained TSP coach to help them focus on building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out observ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15560" y="17157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9, the team presents it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will be the best plan that the team knows how to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members do not see how to meet management’s objectives, they present alternativ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responsibilities in meeting 9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the team’s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plan’s accuracy and 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ove the plan if it is sui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 (cont.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15560" y="17157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plans rarely meet all of management’s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is occurs, managers mus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most suitable alternat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other choices if no suitable plan is availabl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meeting’s conclusion,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s how to proc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lls the team its decis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s why they made the deci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nks the team members for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Team Oper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28880" y="1727280"/>
            <a:ext cx="741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ing the launch, the team does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s its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s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assesses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s to management on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onger jobs, TSP teams periodically relaunch their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Re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28880" y="1727280"/>
            <a:ext cx="741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can make detailed plans only for about three to six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er-range plans are rarely accurate enough to guide develop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launch is need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plan based on new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w detaile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unch is similar to the launch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Microsoft"/>
          <p:cNvPicPr/>
          <p:nvPr/>
        </p:nvPicPr>
        <p:blipFill>
          <a:blip r:embed="rId1"/>
          <a:stretch/>
        </p:blipFill>
        <p:spPr>
          <a:xfrm>
            <a:off x="5681520" y="2270160"/>
            <a:ext cx="1190880" cy="771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op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s using, piloting, or preparing to pilot the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042920" y="2136600"/>
            <a:ext cx="264024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Advanced Information Service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AMRDEC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Bechtel-Betti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entre De Investigacion En Matamatica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ensus Bureau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un Microsystems/Cluster File System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omputing Technology, Inc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QG, Inc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RSIP / STSC / DRAPER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avis System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EK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OE / Los Alamo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OE / Naval Reactor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PC Cirru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ynamics Research Corp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EDS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Evince Medi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IBM Japan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IBM Mexico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Idea Entity Corporation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Intuit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Kaitatsu, Ltd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KPMG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Kyushu Institute of Technolog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Los Alamos National Laborator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736800" y="2144880"/>
            <a:ext cx="239904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M/A-Com Private Radio Systems, Inc.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Magellen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Microsoft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Motiv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NASA Langle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NAVAIR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NAVOCEANO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NCS Pearson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Prodigia S.A. de C.V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PS&amp;J Consulting - Software Six Sigm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QuarkSoft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AIC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andia National Laboratories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oftek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TPP, Inc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TSC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Tec de Monterre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Unisino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University of Alabama / Huntsville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University of Queensland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Activision/Vicarious Vision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2" name="Picture 8" descr="Oracle"/>
          <p:cNvPicPr/>
          <p:nvPr/>
        </p:nvPicPr>
        <p:blipFill>
          <a:blip r:embed="rId2"/>
          <a:stretch/>
        </p:blipFill>
        <p:spPr>
          <a:xfrm>
            <a:off x="6215040" y="2955960"/>
            <a:ext cx="1190520" cy="961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intuit"/>
          <p:cNvPicPr/>
          <p:nvPr/>
        </p:nvPicPr>
        <p:blipFill>
          <a:blip r:embed="rId3"/>
          <a:stretch/>
        </p:blipFill>
        <p:spPr>
          <a:xfrm>
            <a:off x="7281720" y="3413160"/>
            <a:ext cx="1524240" cy="1257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adobe"/>
          <p:cNvPicPr/>
          <p:nvPr/>
        </p:nvPicPr>
        <p:blipFill>
          <a:blip r:embed="rId4"/>
          <a:stretch/>
        </p:blipFill>
        <p:spPr>
          <a:xfrm>
            <a:off x="7586640" y="2422440"/>
            <a:ext cx="762120" cy="924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ibm"/>
          <p:cNvPicPr/>
          <p:nvPr/>
        </p:nvPicPr>
        <p:blipFill>
          <a:blip r:embed="rId5"/>
          <a:stretch/>
        </p:blipFill>
        <p:spPr>
          <a:xfrm>
            <a:off x="6062760" y="4175280"/>
            <a:ext cx="1190520" cy="780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sun microsystems"/>
          <p:cNvPicPr/>
          <p:nvPr/>
        </p:nvPicPr>
        <p:blipFill>
          <a:blip r:embed="rId6"/>
          <a:stretch/>
        </p:blipFill>
        <p:spPr>
          <a:xfrm>
            <a:off x="7358040" y="4861080"/>
            <a:ext cx="1619280" cy="714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vicarious visions"/>
          <p:cNvPicPr/>
          <p:nvPr/>
        </p:nvPicPr>
        <p:blipFill>
          <a:blip r:embed="rId7"/>
          <a:stretch/>
        </p:blipFill>
        <p:spPr>
          <a:xfrm>
            <a:off x="6138720" y="5318280"/>
            <a:ext cx="119088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Summar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19160" y="1474920"/>
          <a:ext cx="7413480" cy="3930480"/>
        </p:xfrm>
        <a:graphic>
          <a:graphicData uri="http://schemas.openxmlformats.org/drawingml/2006/table">
            <a:tbl>
              <a:tblPr/>
              <a:tblGrid>
                <a:gridCol w="1766880"/>
                <a:gridCol w="1981080"/>
                <a:gridCol w="3665520"/>
              </a:tblGrid>
              <a:tr h="869040">
                <a:tc>
                  <a:txBody>
                    <a:bodyPr lIns="45720" rIns="45720" tIns="274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45720" rIns="45720" tIns="274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Impact Study (2003)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ypical Industry 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Standish Group)*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531440"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error avera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530000"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error ran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20% to +27%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29"/>
          <p:cNvSpPr/>
          <p:nvPr/>
        </p:nvSpPr>
        <p:spPr>
          <a:xfrm>
            <a:off x="1121760" y="5765760"/>
            <a:ext cx="51253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 From a study of 20 projects in 13 organizations conducted in 2003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* Of the unsuccessful projects, average schedule error was 222%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2147760" y="218124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2" name="Picture 222" descr=""/>
          <p:cNvPicPr/>
          <p:nvPr/>
        </p:nvPicPr>
        <p:blipFill>
          <a:blip r:embed="rId1"/>
          <a:stretch/>
        </p:blipFill>
        <p:spPr>
          <a:xfrm>
            <a:off x="4791240" y="2506680"/>
            <a:ext cx="36306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Summar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044720" y="1511280"/>
            <a:ext cx="6964200" cy="4362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1086840" y="6080040"/>
            <a:ext cx="2528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Source: CMU/SEI-TR-2003-014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47760" y="218124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Comparis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762120" y="1574640"/>
            <a:ext cx="413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From a study published in 200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fifteen projects in four organizatio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MM ML1, ML2, ML3, and ML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SP improved effort and schedule predictability at all maturity levels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09640" y="4564080"/>
          <a:ext cx="3622680" cy="993600"/>
        </p:xfrm>
        <a:graphic>
          <a:graphicData uri="http://schemas.openxmlformats.org/drawingml/2006/table">
            <a:tbl>
              <a:tblPr/>
              <a:tblGrid>
                <a:gridCol w="1969920"/>
                <a:gridCol w="1652760"/>
              </a:tblGrid>
              <a:tr h="331560">
                <a:tc gridSpan="2">
                  <a:txBody>
                    <a:bodyPr lIns="102600" rIns="102600" tIns="51480" bIns="51480" anchor="t">
                      <a:noAutofit/>
                    </a:bodyPr>
                    <a:p>
                      <a:pPr algn="ctr"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Performance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udy baseline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+27% to +112%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8% to +20%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808200" y="3411360"/>
          <a:ext cx="3622680" cy="993960"/>
        </p:xfrm>
        <a:graphic>
          <a:graphicData uri="http://schemas.openxmlformats.org/drawingml/2006/table">
            <a:tbl>
              <a:tblPr/>
              <a:tblGrid>
                <a:gridCol w="1971360"/>
                <a:gridCol w="1651320"/>
              </a:tblGrid>
              <a:tr h="331560">
                <a:tc gridSpan="2">
                  <a:txBody>
                    <a:bodyPr lIns="102600" rIns="102600" tIns="51480" bIns="51480" anchor="t">
                      <a:noAutofit/>
                    </a:bodyPr>
                    <a:p>
                      <a:pPr algn="ctr"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ffort (Cost) Performance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udy baseline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+17% to +85%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25% to +25%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46" descr=""/>
          <p:cNvPicPr/>
          <p:nvPr/>
        </p:nvPicPr>
        <p:blipFill>
          <a:blip r:embed="rId1"/>
          <a:stretch/>
        </p:blipFill>
        <p:spPr>
          <a:xfrm>
            <a:off x="4637160" y="1405080"/>
            <a:ext cx="4168800" cy="264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4" descr=""/>
          <p:cNvPicPr/>
          <p:nvPr/>
        </p:nvPicPr>
        <p:blipFill>
          <a:blip r:embed="rId2"/>
          <a:stretch/>
        </p:blipFill>
        <p:spPr>
          <a:xfrm>
            <a:off x="4640400" y="3981600"/>
            <a:ext cx="4168800" cy="2646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7"/>
          <p:cNvSpPr/>
          <p:nvPr/>
        </p:nvSpPr>
        <p:spPr>
          <a:xfrm>
            <a:off x="905040" y="626112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ource: CMU/SEI-TR-2000-01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Improvement Pays O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1"/>
          <a:stretch/>
        </p:blipFill>
        <p:spPr>
          <a:xfrm>
            <a:off x="351000" y="1508040"/>
            <a:ext cx="8726400" cy="4586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009080" y="6216480"/>
            <a:ext cx="2528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Source: CMU/SEI-TR-2003-014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6120" y="839520"/>
            <a:ext cx="74214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dictable Schedu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515880" y="1565280"/>
            <a:ext cx="8381880" cy="48340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4357440" y="2773440"/>
            <a:ext cx="148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M introdu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645600" y="3611520"/>
            <a:ext cx="139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 introdu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4141440" y="3000240"/>
            <a:ext cx="228600" cy="154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 flipH="1">
            <a:off x="6428880" y="3838680"/>
            <a:ext cx="228600" cy="153720"/>
          </a:xfrm>
          <a:prstGeom prst="line">
            <a:avLst/>
          </a:prstGeom>
          <a:ln w="12600">
            <a:solidFill>
              <a:srgbClr val="96969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029960" y="6342120"/>
            <a:ext cx="117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[Source: AIS]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9480" y="826920"/>
            <a:ext cx="741996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uit Quality Improv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57200" y="1531800"/>
            <a:ext cx="85345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reduced defects found in system test by 60% over the previous two releases of QuickBooks 2007 rele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uit reported a savings of $20M from a reduction in customer support calls on QuickBooks 200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SP, Intuit’s 2007 release of QuickBooks met every major milestone and delivered 33% more functionality than plan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061760" y="3697200"/>
            <a:ext cx="1108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Source: Intui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2187720" y="2168640"/>
            <a:ext cx="4524120" cy="30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729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icrosoft Schedule Improv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-time TSP projects at Microsoft had a 10 times better mean schedule error than traditional projects at Microsoft as reflected in the following 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78000" y="2989440"/>
          <a:ext cx="8454960" cy="1528560"/>
        </p:xfrm>
        <a:graphic>
          <a:graphicData uri="http://schemas.openxmlformats.org/drawingml/2006/table">
            <a:tbl>
              <a:tblPr/>
              <a:tblGrid>
                <a:gridCol w="3430440"/>
                <a:gridCol w="2803320"/>
                <a:gridCol w="2221200"/>
              </a:tblGrid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Microsoft Schedule Results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Non-TSP Projects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TSP Projects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leased on Time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2%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6%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verage Days Late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ean Schedule Error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ample Size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 Box 4"/>
          <p:cNvSpPr/>
          <p:nvPr/>
        </p:nvSpPr>
        <p:spPr>
          <a:xfrm>
            <a:off x="1110960" y="6353280"/>
            <a:ext cx="139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Source: Microsof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rs Like T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71600" y="2081160"/>
            <a:ext cx="8437320" cy="426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03360" y="142092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mments below from managers and developers describe their experience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68440" y="2187720"/>
            <a:ext cx="2232000" cy="439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568440" y="2714760"/>
            <a:ext cx="2239920" cy="1734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3"/>
          <a:srcRect l="0" t="0" r="2020" b="0"/>
          <a:stretch/>
        </p:blipFill>
        <p:spPr>
          <a:xfrm>
            <a:off x="3567240" y="2182680"/>
            <a:ext cx="2165400" cy="1354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4"/>
          <a:srcRect l="0" t="0" r="3617" b="0"/>
          <a:stretch/>
        </p:blipFill>
        <p:spPr>
          <a:xfrm>
            <a:off x="6543720" y="4179960"/>
            <a:ext cx="2158920" cy="2066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5"/>
          <a:stretch/>
        </p:blipFill>
        <p:spPr>
          <a:xfrm>
            <a:off x="568440" y="4548240"/>
            <a:ext cx="2209680" cy="1712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/>
          <p:cNvPicPr/>
          <p:nvPr/>
        </p:nvPicPr>
        <p:blipFill>
          <a:blip r:embed="rId6"/>
          <a:srcRect l="0" t="0" r="2020" b="0"/>
          <a:stretch/>
        </p:blipFill>
        <p:spPr>
          <a:xfrm>
            <a:off x="3568680" y="3618000"/>
            <a:ext cx="2165400" cy="1231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7"/>
          <a:stretch/>
        </p:blipFill>
        <p:spPr>
          <a:xfrm>
            <a:off x="3568680" y="5807160"/>
            <a:ext cx="2152800" cy="439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"/>
          <p:cNvPicPr/>
          <p:nvPr/>
        </p:nvPicPr>
        <p:blipFill>
          <a:blip r:embed="rId8"/>
          <a:srcRect l="0" t="0" r="-719" b="0"/>
          <a:stretch/>
        </p:blipFill>
        <p:spPr>
          <a:xfrm>
            <a:off x="3568680" y="4964040"/>
            <a:ext cx="2168640" cy="69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9"/>
          <a:srcRect l="0" t="0" r="5603" b="0"/>
          <a:stretch/>
        </p:blipFill>
        <p:spPr>
          <a:xfrm>
            <a:off x="6543720" y="2195640"/>
            <a:ext cx="2141640" cy="1093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/>
          <p:cNvPicPr/>
          <p:nvPr/>
        </p:nvPicPr>
        <p:blipFill>
          <a:blip r:embed="rId10"/>
          <a:stretch/>
        </p:blipFill>
        <p:spPr>
          <a:xfrm>
            <a:off x="6543720" y="3360600"/>
            <a:ext cx="2152440" cy="7351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7"/>
          <p:cNvSpPr/>
          <p:nvPr/>
        </p:nvSpPr>
        <p:spPr>
          <a:xfrm>
            <a:off x="513000" y="634356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ource: CMU/SEI-TR-2003-01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15920" y="1715760"/>
            <a:ext cx="76644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ear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d-upo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self-directed teams, th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ir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oluntarily commit to thei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lieve their commitments are achiev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builds self-direct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9080" y="864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 Software Product is a Team Effor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3240" y="1738080"/>
            <a:ext cx="3632400" cy="4521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ftware products are made from software modules or compon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modules are designed, built, integrated, and tested by a team of software develop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’s skills, spirit, discipline, and commitment govern the resul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4179" t="-1715" r="3920" b="-56"/>
          <a:stretch/>
        </p:blipFill>
        <p:spPr>
          <a:xfrm>
            <a:off x="4638600" y="1749600"/>
            <a:ext cx="37720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ccessful Team Practi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evelopment teams work well, they generally have successful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ea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d-upon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also must be motivated and personally commit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these, teams will rarely be successfu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f-directed Team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09" name="Group 27"/>
          <p:cNvGrpSpPr/>
          <p:nvPr/>
        </p:nvGrpSpPr>
        <p:grpSpPr>
          <a:xfrm>
            <a:off x="1231920" y="2181240"/>
            <a:ext cx="2146320" cy="1752480"/>
            <a:chOff x="1231920" y="2181240"/>
            <a:chExt cx="2146320" cy="1752480"/>
          </a:xfrm>
        </p:grpSpPr>
        <p:sp>
          <p:nvSpPr>
            <p:cNvPr id="110" name="Oval 4"/>
            <p:cNvSpPr/>
            <p:nvPr/>
          </p:nvSpPr>
          <p:spPr>
            <a:xfrm>
              <a:off x="2014560" y="2181240"/>
              <a:ext cx="406440" cy="3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1" name="Oval 5"/>
            <p:cNvSpPr/>
            <p:nvPr/>
          </p:nvSpPr>
          <p:spPr>
            <a:xfrm>
              <a:off x="123192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181116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239076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4" name="Oval 8"/>
            <p:cNvSpPr/>
            <p:nvPr/>
          </p:nvSpPr>
          <p:spPr>
            <a:xfrm>
              <a:off x="297180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115" name="AutoShape 9"/>
            <p:cNvCxnSpPr>
              <a:stCxn id="110" idx="4"/>
              <a:endCxn id="111" idx="7"/>
            </p:cNvCxnSpPr>
            <p:nvPr/>
          </p:nvCxnSpPr>
          <p:spPr>
            <a:xfrm flipH="1">
              <a:off x="1579680" y="2550600"/>
              <a:ext cx="638280" cy="1067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6" name="AutoShape 10"/>
            <p:cNvCxnSpPr>
              <a:stCxn id="110" idx="4"/>
              <a:endCxn id="112" idx="0"/>
            </p:cNvCxnSpPr>
            <p:nvPr/>
          </p:nvCxnSpPr>
          <p:spPr>
            <a:xfrm flipH="1">
              <a:off x="2014200" y="2550600"/>
              <a:ext cx="203760" cy="1013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7" name="AutoShape 11"/>
            <p:cNvCxnSpPr>
              <a:stCxn id="110" idx="4"/>
              <a:endCxn id="113" idx="0"/>
            </p:cNvCxnSpPr>
            <p:nvPr/>
          </p:nvCxnSpPr>
          <p:spPr>
            <a:xfrm>
              <a:off x="2217240" y="2550600"/>
              <a:ext cx="376920" cy="1013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8" name="AutoShape 12"/>
            <p:cNvCxnSpPr>
              <a:stCxn id="110" idx="4"/>
              <a:endCxn id="114" idx="1"/>
            </p:cNvCxnSpPr>
            <p:nvPr/>
          </p:nvCxnSpPr>
          <p:spPr>
            <a:xfrm>
              <a:off x="2217600" y="2550600"/>
              <a:ext cx="813600" cy="1067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</p:grpSp>
      <p:grpSp>
        <p:nvGrpSpPr>
          <p:cNvPr id="119" name="Group 28"/>
          <p:cNvGrpSpPr/>
          <p:nvPr/>
        </p:nvGrpSpPr>
        <p:grpSpPr>
          <a:xfrm>
            <a:off x="4788000" y="1913040"/>
            <a:ext cx="2654280" cy="2611440"/>
            <a:chOff x="4788000" y="1913040"/>
            <a:chExt cx="2654280" cy="2611440"/>
          </a:xfrm>
        </p:grpSpPr>
        <p:sp>
          <p:nvSpPr>
            <p:cNvPr id="120" name="Oval 22"/>
            <p:cNvSpPr/>
            <p:nvPr/>
          </p:nvSpPr>
          <p:spPr>
            <a:xfrm>
              <a:off x="4876920" y="2098800"/>
              <a:ext cx="2489040" cy="24256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4788000" y="2722680"/>
              <a:ext cx="40644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5194440" y="4103640"/>
              <a:ext cx="4064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6680160" y="4103640"/>
              <a:ext cx="4064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Oval 18"/>
            <p:cNvSpPr/>
            <p:nvPr/>
          </p:nvSpPr>
          <p:spPr>
            <a:xfrm>
              <a:off x="5918040" y="1913040"/>
              <a:ext cx="406440" cy="3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035840" y="2722680"/>
              <a:ext cx="40644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126" name="Text Box 25"/>
          <p:cNvSpPr/>
          <p:nvPr/>
        </p:nvSpPr>
        <p:spPr>
          <a:xfrm>
            <a:off x="906120" y="4919760"/>
            <a:ext cx="29296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Traditional team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leader plans, directs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tracks the team’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4894560" y="4919760"/>
            <a:ext cx="34527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Self-directed team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members particip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planning, managing, an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cking their own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f-directed Team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ttacking important proble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aggressive but realistic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to defined plans and process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skilled and trained for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ir roles and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personally committed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the team members are in control of their own work, they are motivated to do a superior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builds self-direct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Self-direct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28520" y="2212920"/>
            <a:ext cx="27572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f-directed teams must be buil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requires a team-building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14560" y="4527720"/>
            <a:ext cx="4980240" cy="12934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Memb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535200" y="3240000"/>
            <a:ext cx="4359600" cy="1293840"/>
          </a:xfrm>
          <a:prstGeom prst="rect">
            <a:avLst/>
          </a:prstGeom>
          <a:solidFill>
            <a:srgbClr val="87ab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24360" y="1952640"/>
            <a:ext cx="3970440" cy="129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884840" y="4678200"/>
            <a:ext cx="302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rocess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erformance meas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Estimating &amp; planning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Quality management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70520" y="3376440"/>
            <a:ext cx="2832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Role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ailored team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Detailed and balanced pla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723280" y="2025720"/>
            <a:ext cx="212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eam communic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eam coordin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roject 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 rot="16200000">
            <a:off x="8047440" y="4892040"/>
            <a:ext cx="7102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 rot="16200000">
            <a:off x="8054280" y="2842200"/>
            <a:ext cx="696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8880" y="1726920"/>
            <a:ext cx="70675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TSP team-building process,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ir own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ir own strategies and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their product development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nd their plans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y their goals are import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voluntarily committed to thei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lieve that their commitments are achiev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articipate in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8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49Z</dcterms:modified>
  <cp:revision>39</cp:revision>
  <dc:subject>24 July 2001 / 3:30pm</dc:subject>
  <dc:title>PowerPoint Presentation</dc:title>
</cp:coreProperties>
</file>